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AF3B1-E8A3-4867-87C2-8A9EE11FA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E9EB-3128-4D04-97CC-FE6C5B1E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04649-B5F2-4C2A-A0D1-65786F915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A230D-1B22-4501-AEDD-67F6BBBEA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3F76-7A56-4255-8EA2-54B83C18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79EB-FAE2-4FA5-8A58-353D9E4B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30FF-D0BC-4BF7-A2DA-632A0232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658A-DD51-4743-9F90-5992516F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B674-BB0A-4210-A3C3-12027A14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B8C0-74BD-4FF0-8155-0069EEC7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6057-86E7-4007-9205-D77BC53F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57FA-1D77-4214-9BE4-30DF78C83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439A-A293-4A67-9AA6-207A8C0C1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5.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biased questions.  A question is biased if the wording is such that it leads to a particular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question “Given the failure of welfare in the United States, do you feel welfare programs should be eliminated?”  This leading question will most likely result in agreement by your respon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 335 # 1-7, 9, 11 or 1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wo most important factors that affect the validity of a survey ar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ple chosen for the population that is being surve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of the questionnaire used to collect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steps in designing a questionnaire ar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opulation that you want to gather information 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 of the surve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 questionnaire it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identify the population because it allows us to then select a representative sample and to direct our questions towards that population.  We need to know the purpose of the survey so we can ask questions that will give us information relative to this purp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vs. Closed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signing your survey, you have to decide whether the question will be open, closed or a combination of the two 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n question is answered by the respondent in his or her own words.  Ie: What should students do about the tuition rise in post secondary education.  This can be answered in many ways and opinions can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vs. Closed Questions Continued……</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osed question would be answered by checking a box or circling one of the given responses.  The respondents are given choices that they must select fro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dvantages/disadvantages are there to each of these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nts prefer shorter surveys to longer o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questions clear and concise.  Wordy or complex questions can confuse or turn off respo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tent of a survey is controversial or of a sensitive nature, be sure to check your question to ensure the respondents can answer them as comfortably as possible.  This may require that the survey be confidential or that the respondent remains anonymous.  This may also lead to more truthful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e of technical language or acronyms.  Acronyms should be expanded unless target audience are already familiar with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questions that ask for opinions about two different things because often they cause confusion among respondents and produce results that cannot be interpre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the respondent answers the question “Do you believe that air bags are unsafe and expensive?” with an answer of NO, you may conclude that they believe that airbags are safe and affordable when they really think that air bags are safe yet are still exp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2:27:17Z</dcterms:created>
  <dc:creator>Customer</dc:creator>
  <dc:description/>
  <dc:language>en-US</dc:language>
  <cp:lastModifiedBy>C47203</cp:lastModifiedBy>
  <dcterms:modified xsi:type="dcterms:W3CDTF">2014-10-21T01:53:10Z</dcterms:modified>
  <cp:revision>1</cp:revision>
  <dc:subject/>
  <dc:title>Sec. 5.3</dc:title>
</cp:coreProperties>
</file>